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drumroll.wav" ContentType="audio/x-wav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A61-B4D1-4169-8191-784A1D8E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399-9D21-431E-B3EF-F79C4E0C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B2A56-7FD0-4C16-9378-B47E3E10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4685C-FA2B-4AAB-A042-35F926FF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07DFA-D229-485F-8750-60196D6B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8BE7-9728-4274-AFC3-C867CE9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F431A-B6F4-4E46-8B3D-88477113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8DF65-CFF2-42C7-AFB5-9BE97C75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1D53F-F5B9-43EF-B2A2-97E56616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AC27A-1CD8-4722-9146-8AB7BB1D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A3F3-CD1F-4BA8-B807-8F5D39C3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E7634-F301-44E8-9625-1DCC9387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1FA-232A-4B01-BE13-F9BF01DF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32412-053A-4FAB-81CE-A612A0BD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C1BFC-F144-426E-AA64-CDB73657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31DE5-A75E-48C9-9905-06CC972E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A2165-132D-4620-89B9-BADE052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25B6B-1448-45FC-9FE0-DE2A238D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D6489-1403-466F-8A1D-3616018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7C7A7-4394-4ED5-95C3-2E89F946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B652F-6BC5-4FC3-BFEC-473169A9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CD0A3-4A0F-496D-88FC-3D7F87C0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B4B09-6F9A-4EC6-A306-C64C43AD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957-BFCD-49B3-89FD-C47F590B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18EC5-BA44-4C16-BA38-0DB2A62B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B6E06-C088-43DC-8663-8331CDA5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7130-E2C0-4A81-9CF6-8BC6B545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5610F-29CC-4F55-AE80-703AB6D4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50383-5954-4D1B-9C94-61E31B87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9056-B0F1-4BEE-A06F-C06CE797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EE89D-7C77-4081-828C-7F6E8098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8769C-9151-480E-BE97-AC9F0D8A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5F067-69F3-4AA5-957E-4B1A7438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88F3C-9737-4977-9BF4-76BA808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D799-1AB9-4BEF-B317-10051C6E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2D89E-362C-472A-B2D0-AA6CB26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34026-82CB-4C0F-949E-9D7C77E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4F623-CD20-40F6-9835-43517DC8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CB581-56BD-4135-9BCD-7927EA7E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BC6B9-C48B-43D7-A9D9-0B04F131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0A3A3-F952-48D8-922E-D26199B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4B904-AD6D-4A31-82E3-CBF9B174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0DCA4-2F3E-45A1-AD4B-45A33F2A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9E503-8F25-4AEE-8AE3-2984BB22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BFB7AD-B3FF-440B-A970-18A6D563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32F-59CE-42E1-84D3-8602D294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8B288-E921-404B-8973-40F3BE08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AD239-5538-4983-870C-E6C32613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1C4D5-C4CD-4700-BA15-6A3E81E1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56DD8-362E-4226-A1E7-8CDF0C39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7234D-AF5E-4F79-BE5A-6F6CF954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D1DC-01C0-4600-A723-F513B985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3E8-DDAB-4B62-94DC-BFF8128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3EEF-D22F-45C0-948F-DB411071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66E6-DFEE-451D-9532-BEA7514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3796-4778-4012-94B1-59CBB3E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107E-4BEC-4023-8575-E1FF4FD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9FA-1DC0-44C6-906E-0C075C9C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8C5A-572B-46BD-B0E7-85EE398D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9636-7F36-4841-8D74-7AE76C4F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544D-7B87-4625-A780-67081C49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A4E8-8B19-4842-9393-F27D9639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E01D-E84D-4A13-9E23-E013EE6C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0E63-D1E4-45DD-83E7-5E1464C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30A0-D813-4C4C-ABCD-DDFA8975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A514-830B-4D69-A7C3-80DF46C2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F6CAE-3470-456E-B209-F7141B4C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463-07B3-4C2E-8329-1034ABFB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298FF-6591-45D6-AB15-884F04D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959F-7719-44F1-BBF1-3C7415E7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0B49D-757D-4CCD-82EA-DD54677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F090-8E79-413C-8319-3962DE69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90F6-56BC-4182-9677-4CE2D60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A2C4-9134-4C9C-96ED-7FA86DDA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D6AC-ADE7-4655-B748-498C8CE8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1F5D6-6B9E-4961-8279-23A8D578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B60D1-592B-4150-BF13-25308ED9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82704-3B25-4ACF-8AE9-37853F8C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E4C-2DDA-4401-AD14-8A5826BF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E19F9-E1A8-482E-9D80-A6C92FB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6205-DE82-4BE3-8202-4BC7B2A1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C759-4C77-47B7-B9D1-10B0E24B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B5C36-1970-4A66-930D-2D6972A5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28C41-52C9-40FA-A939-2030FB7E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D5DAF-B945-46AB-9F15-D33CA1DB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25FD0-DE88-4F74-BECE-2E05D514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2EF19-041F-4364-BA1E-DF189B50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C384-121D-4A91-BFFD-FE0CA4B8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8BDBB-76A3-4FB4-BD46-09CA9A53D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E70-CD24-442E-A92F-3876463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8B275-F9F7-482F-9A25-395BABCA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6C887-8D43-4B3D-B15B-ABFD0818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79776-AF14-41D0-93A8-834DC44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56B9-D3E0-42A5-81A8-F20313DC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E709-C6D9-4B6B-9103-4896141E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CB07-7A42-4580-9B12-A37BA6EF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6EB3-922B-41AF-8B94-F0A7AA57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CF258-BC90-442B-9205-E235A28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86C6-F9E9-4E0B-8866-334C46D4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FE86-02B1-4064-9E9B-2B23C2AD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5D3-5958-4043-8486-92F7640B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EEF4C-344F-45EF-8128-039D9685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AACB2-ADF7-4077-8E3E-17A301F7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3DC70-8B0E-4134-BD10-1BE06943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5D925-7249-49CA-931C-3F919075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3EB25-9997-4B22-8C3A-E2740467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9AD36-CE26-483A-98F0-6EDE2310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81A17-C487-4B79-BB16-F16B39A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8AEDF-ADC2-4C2A-B265-5FC6FDF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EDEF-86B7-41B3-A0C1-4959317E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AC928-7D99-4394-8553-4FE61AA0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6AE0-A1BF-48EE-98FB-3F7BF5D9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C80B0-F1DB-4DF9-869F-E4CD8EE4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67CBE-5982-4D26-99F3-D6187EE4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20C9-0719-4799-BD7F-70D4C7BB1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2D558-B5EF-4A82-A8D7-89698C4F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F2782-F9AC-47CA-A38A-CFB3C143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DF861-B7EE-4868-AFE2-ABEEEB89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86345-70C1-4020-B810-28516A5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D13A2-B27F-46F9-B7DA-F3D47070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0F0D6-AE80-45C2-9E36-EFDBB68B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3257C-C98C-47BD-961C-769BDEE3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AAB-32F6-4EF6-BD51-D5FF9723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CB0F-5BDD-426B-963A-6FB18507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BBBE-47F7-4237-9C72-16030AB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61BEB-D255-4FDE-B3B7-2E22B0F7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368A-24D8-435C-822E-98CBE8F9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20AE2-2E18-4904-8CD5-3ACCF334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26E31-9DB5-4A54-88CD-2D31C552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04EB0-5DCF-4AE5-B840-5BBB9E7D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26602-13F1-4884-9D1A-C5A75D9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C11FC-6632-4F27-AE4D-45BC630C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1DCC-10F5-4E19-BD30-1C5D0593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7BC-A0CD-4073-8EB9-7FC2974F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87809-4037-4067-AD1D-EAB2E377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E97F2-FBAB-43F9-81A8-172CD7AE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E1B7-CFDD-4149-ACD2-321D6E11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CCF4E-CED5-46F7-9618-F058097E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CB45-29E6-46DA-A794-13A55661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80E5A-CE06-4C73-ACE0-17FA0027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FD29-0B19-4AA4-975F-FA825593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33D1BC-D5CC-4D76-AD7C-3F0AB5C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24F79-EBAF-4411-8EFD-9D5D50A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2879E-B8E4-45DD-8A97-DCAAC72A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5EA-E5FC-4246-B15E-C70D16ECF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F354-FC71-44D1-99DB-6820BF0B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AB3-7448-45B9-AAE1-AED7831E4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4541-AFB1-469D-924F-ADC92AF3A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301-B241-4FE6-A988-2A923D370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2AD6-DA93-4183-BDF7-F1D9D46AC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6FE-61A6-4FE6-83DD-A9B6A8C2E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F132-2DE5-4891-A230-F3757732C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51B5-2C28-4ED6-B621-78992437E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3B6-0B48-47C0-95A8-84FB43CE3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40E7-CC2C-4FEC-A5B0-441E194D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926C-BA15-4AD2-85D6-AFE161ED8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990720" y="-609480"/>
            <a:ext cx="198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3032280" y="261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5943600" y="245916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276720" y="-685800"/>
            <a:ext cx="1987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609480" y="2209680"/>
            <a:ext cx="251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3276720" y="-838080"/>
            <a:ext cx="12952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0066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13" descr="KT044"/>
          <p:cNvPicPr/>
          <p:nvPr/>
        </p:nvPicPr>
        <p:blipFill>
          <a:blip r:embed="rId1"/>
          <a:stretch/>
        </p:blipFill>
        <p:spPr>
          <a:xfrm>
            <a:off x="6083280" y="-380880"/>
            <a:ext cx="3060720" cy="51051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4" descr="KT151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50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C80-3E1A-498D-850A-C06448CFB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矩形 1332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80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81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ō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85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86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90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91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2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Text Box 16"/>
            <p:cNvSpPr/>
            <p:nvPr/>
          </p:nvSpPr>
          <p:spPr>
            <a:xfrm>
              <a:off x="6929280" y="847800"/>
              <a:ext cx="1154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Group 32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595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596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00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01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2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05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06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046C-FFD1-4695-85ED-42163A8C6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612" name="Group 3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613" name="Picture 4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4" name="Text Box 5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Text Box 6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617" name="Group 8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618" name="Picture 9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Text Box 10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Text Box 11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12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622" name="Group 13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623" name="Picture 14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Text Box 15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16"/>
            <p:cNvSpPr/>
            <p:nvPr/>
          </p:nvSpPr>
          <p:spPr>
            <a:xfrm>
              <a:off x="6929280" y="8478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ǔ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17"/>
          <p:cNvGrpSpPr/>
          <p:nvPr/>
        </p:nvGrpSpPr>
        <p:grpSpPr>
          <a:xfrm>
            <a:off x="826920" y="3860640"/>
            <a:ext cx="2231640" cy="1942560"/>
            <a:chOff x="826920" y="3860640"/>
            <a:chExt cx="2231640" cy="1942560"/>
          </a:xfrm>
        </p:grpSpPr>
        <p:grpSp>
          <p:nvGrpSpPr>
            <p:cNvPr id="627" name="Group 18"/>
            <p:cNvGrpSpPr/>
            <p:nvPr/>
          </p:nvGrpSpPr>
          <p:grpSpPr>
            <a:xfrm>
              <a:off x="826920" y="3860640"/>
              <a:ext cx="2231640" cy="1942560"/>
              <a:chOff x="826920" y="3860640"/>
              <a:chExt cx="2231640" cy="1942560"/>
            </a:xfrm>
          </p:grpSpPr>
          <p:pic>
            <p:nvPicPr>
              <p:cNvPr id="628" name="Picture 19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826920" y="3860640"/>
                <a:ext cx="223164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0"/>
              <p:cNvSpPr/>
              <p:nvPr/>
            </p:nvSpPr>
            <p:spPr>
              <a:xfrm>
                <a:off x="1029960" y="4206960"/>
                <a:ext cx="182556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21"/>
            <p:cNvSpPr/>
            <p:nvPr/>
          </p:nvSpPr>
          <p:spPr>
            <a:xfrm>
              <a:off x="1332000" y="4508640"/>
              <a:ext cx="136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632" name="Group 2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633" name="Picture 2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" name="Text Box 2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Text Box 2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2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637" name="Group 2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638" name="Picture 2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Text Box 3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Text Box 3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ù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7C6-C6B4-4B51-8140-95200BE0C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我会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85800" y="1267920"/>
            <a:ext cx="77724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要认真学习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真棒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爱爸爸和妈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请你告诉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我是你的朋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你认识我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F326-9869-44CA-B57E-40BBFEE9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048120" y="0"/>
            <a:ext cx="649260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9BB4-E135-4318-AD93-141BD4B97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048120" y="-838080"/>
            <a:ext cx="42447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29AA-ACBB-4011-A988-3D675202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1143000" y="1066680"/>
            <a:ext cx="83808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1297080" y="32004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84360" y="5430960"/>
            <a:ext cx="16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2286000" y="1905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拉开天线听广播，右下半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2438280" y="3962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端起脸盆把水泼，右上半圆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  p  p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5869080" y="1981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1"/>
          <p:cNvSpPr/>
          <p:nvPr/>
        </p:nvSpPr>
        <p:spPr>
          <a:xfrm>
            <a:off x="6556320" y="199692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BF0-F60B-4EEE-B892-CA67D38C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页脚占位符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09680" y="-838080"/>
            <a:ext cx="4359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3F68-BAAB-456C-99EF-87F8DE565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2666880" y="-380880"/>
            <a:ext cx="381024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3FE5-CFCD-42B8-9A7E-E15F21F1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762120" y="91440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992880" y="35812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2438280" y="1523880"/>
            <a:ext cx="508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两个门洞 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  m  m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2362320" y="39625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一根拐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4721040" y="3962520"/>
            <a:ext cx="156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f  f  f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BC41-C069-4F6B-945E-DB539909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页脚占位符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533520" y="609480"/>
            <a:ext cx="1523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b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0" y="4267080"/>
            <a:ext cx="952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2286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243828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590920" y="609480"/>
            <a:ext cx="1676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p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57200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>
            <a:off x="6934320" y="83808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4"/>
          <p:cNvSpPr/>
          <p:nvPr/>
        </p:nvSpPr>
        <p:spPr>
          <a:xfrm>
            <a:off x="914400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5"/>
          <p:cNvSpPr/>
          <p:nvPr/>
        </p:nvSpPr>
        <p:spPr>
          <a:xfrm>
            <a:off x="4724280" y="609480"/>
            <a:ext cx="23623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m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7435800" y="609480"/>
            <a:ext cx="17082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ccff"/>
                </a:solidFill>
                <a:latin typeface="Times New Roman"/>
              </a:rPr>
              <a:t>f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0ABC-F31D-4FCE-9DDA-555705278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页脚占位符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4"/>
          <p:cNvGrpSpPr/>
          <p:nvPr/>
        </p:nvGrpSpPr>
        <p:grpSpPr>
          <a:xfrm>
            <a:off x="468360" y="333360"/>
            <a:ext cx="3527280" cy="1942560"/>
            <a:chOff x="468360" y="333360"/>
            <a:chExt cx="3527280" cy="1942560"/>
          </a:xfrm>
        </p:grpSpPr>
        <p:grpSp>
          <p:nvGrpSpPr>
            <p:cNvPr id="548" name="Group 4"/>
            <p:cNvGrpSpPr/>
            <p:nvPr/>
          </p:nvGrpSpPr>
          <p:grpSpPr>
            <a:xfrm>
              <a:off x="468360" y="333360"/>
              <a:ext cx="2231280" cy="1942560"/>
              <a:chOff x="468360" y="333360"/>
              <a:chExt cx="2231280" cy="1942560"/>
            </a:xfrm>
          </p:grpSpPr>
          <p:pic>
            <p:nvPicPr>
              <p:cNvPr id="549" name="Picture 5" descr="PIC_011"/>
              <p:cNvPicPr/>
              <p:nvPr/>
            </p:nvPicPr>
            <p:blipFill>
              <a:blip r:embed="rId1"/>
              <a:srcRect l="0" t="49793" r="70936" b="28392"/>
              <a:stretch/>
            </p:blipFill>
            <p:spPr>
              <a:xfrm>
                <a:off x="468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Text Box 6"/>
              <p:cNvSpPr/>
              <p:nvPr/>
            </p:nvSpPr>
            <p:spPr>
              <a:xfrm>
                <a:off x="671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Text Box 7"/>
            <p:cNvSpPr/>
            <p:nvPr/>
          </p:nvSpPr>
          <p:spPr>
            <a:xfrm>
              <a:off x="1187280" y="100188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á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26"/>
          <p:cNvGrpSpPr/>
          <p:nvPr/>
        </p:nvGrpSpPr>
        <p:grpSpPr>
          <a:xfrm>
            <a:off x="3203640" y="404640"/>
            <a:ext cx="2231280" cy="1942560"/>
            <a:chOff x="3203640" y="404640"/>
            <a:chExt cx="2231280" cy="1942560"/>
          </a:xfrm>
        </p:grpSpPr>
        <p:grpSp>
          <p:nvGrpSpPr>
            <p:cNvPr id="553" name="Group 11"/>
            <p:cNvGrpSpPr/>
            <p:nvPr/>
          </p:nvGrpSpPr>
          <p:grpSpPr>
            <a:xfrm>
              <a:off x="3203640" y="404640"/>
              <a:ext cx="2231280" cy="1942560"/>
              <a:chOff x="3203640" y="404640"/>
              <a:chExt cx="2231280" cy="1942560"/>
            </a:xfrm>
          </p:grpSpPr>
          <p:pic>
            <p:nvPicPr>
              <p:cNvPr id="554" name="Picture 12" descr="PIC_011"/>
              <p:cNvPicPr/>
              <p:nvPr/>
            </p:nvPicPr>
            <p:blipFill>
              <a:blip r:embed="rId2"/>
              <a:srcRect l="0" t="49793" r="70936" b="28392"/>
              <a:stretch/>
            </p:blipFill>
            <p:spPr>
              <a:xfrm>
                <a:off x="3203640" y="404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3"/>
              <p:cNvSpPr/>
              <p:nvPr/>
            </p:nvSpPr>
            <p:spPr>
              <a:xfrm>
                <a:off x="3406320" y="750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25"/>
            <p:cNvSpPr/>
            <p:nvPr/>
          </p:nvSpPr>
          <p:spPr>
            <a:xfrm>
              <a:off x="3995640" y="981000"/>
              <a:ext cx="122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Group 28"/>
          <p:cNvGrpSpPr/>
          <p:nvPr/>
        </p:nvGrpSpPr>
        <p:grpSpPr>
          <a:xfrm>
            <a:off x="6156360" y="333360"/>
            <a:ext cx="2231280" cy="1942560"/>
            <a:chOff x="6156360" y="333360"/>
            <a:chExt cx="2231280" cy="1942560"/>
          </a:xfrm>
        </p:grpSpPr>
        <p:grpSp>
          <p:nvGrpSpPr>
            <p:cNvPr id="558" name="Group 8"/>
            <p:cNvGrpSpPr/>
            <p:nvPr/>
          </p:nvGrpSpPr>
          <p:grpSpPr>
            <a:xfrm>
              <a:off x="6156360" y="333360"/>
              <a:ext cx="2231280" cy="1942560"/>
              <a:chOff x="6156360" y="333360"/>
              <a:chExt cx="2231280" cy="1942560"/>
            </a:xfrm>
          </p:grpSpPr>
          <p:pic>
            <p:nvPicPr>
              <p:cNvPr id="559" name="Picture 9" descr="PIC_011"/>
              <p:cNvPicPr/>
              <p:nvPr/>
            </p:nvPicPr>
            <p:blipFill>
              <a:blip r:embed="rId3"/>
              <a:srcRect l="0" t="49793" r="70936" b="28392"/>
              <a:stretch/>
            </p:blipFill>
            <p:spPr>
              <a:xfrm>
                <a:off x="6156360" y="333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Text Box 10"/>
              <p:cNvSpPr/>
              <p:nvPr/>
            </p:nvSpPr>
            <p:spPr>
              <a:xfrm>
                <a:off x="6359040" y="679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Text Box 27"/>
            <p:cNvSpPr/>
            <p:nvPr/>
          </p:nvSpPr>
          <p:spPr>
            <a:xfrm>
              <a:off x="6950880" y="84780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31"/>
          <p:cNvGrpSpPr/>
          <p:nvPr/>
        </p:nvGrpSpPr>
        <p:grpSpPr>
          <a:xfrm>
            <a:off x="611280" y="3860640"/>
            <a:ext cx="2231280" cy="1942560"/>
            <a:chOff x="611280" y="3860640"/>
            <a:chExt cx="2231280" cy="1942560"/>
          </a:xfrm>
        </p:grpSpPr>
        <p:grpSp>
          <p:nvGrpSpPr>
            <p:cNvPr id="563" name="Group 14"/>
            <p:cNvGrpSpPr/>
            <p:nvPr/>
          </p:nvGrpSpPr>
          <p:grpSpPr>
            <a:xfrm>
              <a:off x="611280" y="3860640"/>
              <a:ext cx="2231280" cy="1942560"/>
              <a:chOff x="611280" y="3860640"/>
              <a:chExt cx="2231280" cy="1942560"/>
            </a:xfrm>
          </p:grpSpPr>
          <p:pic>
            <p:nvPicPr>
              <p:cNvPr id="564" name="Picture 15" descr="PIC_011"/>
              <p:cNvPicPr/>
              <p:nvPr/>
            </p:nvPicPr>
            <p:blipFill>
              <a:blip r:embed="rId4"/>
              <a:srcRect l="0" t="49793" r="70936" b="28392"/>
              <a:stretch/>
            </p:blipFill>
            <p:spPr>
              <a:xfrm>
                <a:off x="611280" y="386064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Text Box 16"/>
              <p:cNvSpPr/>
              <p:nvPr/>
            </p:nvSpPr>
            <p:spPr>
              <a:xfrm>
                <a:off x="813960" y="420696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29"/>
            <p:cNvSpPr/>
            <p:nvPr/>
          </p:nvSpPr>
          <p:spPr>
            <a:xfrm>
              <a:off x="1332000" y="45082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32"/>
          <p:cNvGrpSpPr/>
          <p:nvPr/>
        </p:nvGrpSpPr>
        <p:grpSpPr>
          <a:xfrm>
            <a:off x="3492360" y="3933720"/>
            <a:ext cx="2231280" cy="1942560"/>
            <a:chOff x="3492360" y="3933720"/>
            <a:chExt cx="2231280" cy="1942560"/>
          </a:xfrm>
        </p:grpSpPr>
        <p:grpSp>
          <p:nvGrpSpPr>
            <p:cNvPr id="568" name="Group 33"/>
            <p:cNvGrpSpPr/>
            <p:nvPr/>
          </p:nvGrpSpPr>
          <p:grpSpPr>
            <a:xfrm>
              <a:off x="3492360" y="3933720"/>
              <a:ext cx="2231280" cy="1942560"/>
              <a:chOff x="3492360" y="3933720"/>
              <a:chExt cx="2231280" cy="1942560"/>
            </a:xfrm>
          </p:grpSpPr>
          <p:pic>
            <p:nvPicPr>
              <p:cNvPr id="569" name="Picture 34" descr="PIC_011"/>
              <p:cNvPicPr/>
              <p:nvPr/>
            </p:nvPicPr>
            <p:blipFill>
              <a:blip r:embed="rId5"/>
              <a:srcRect l="0" t="49793" r="70936" b="28392"/>
              <a:stretch/>
            </p:blipFill>
            <p:spPr>
              <a:xfrm>
                <a:off x="3492360" y="393372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5"/>
              <p:cNvSpPr/>
              <p:nvPr/>
            </p:nvSpPr>
            <p:spPr>
              <a:xfrm>
                <a:off x="3695040" y="428004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Text Box 36"/>
            <p:cNvSpPr/>
            <p:nvPr/>
          </p:nvSpPr>
          <p:spPr>
            <a:xfrm>
              <a:off x="4213080" y="458136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ó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Group 37"/>
          <p:cNvGrpSpPr/>
          <p:nvPr/>
        </p:nvGrpSpPr>
        <p:grpSpPr>
          <a:xfrm>
            <a:off x="6300720" y="3789360"/>
            <a:ext cx="2231280" cy="1942560"/>
            <a:chOff x="6300720" y="3789360"/>
            <a:chExt cx="2231280" cy="1942560"/>
          </a:xfrm>
        </p:grpSpPr>
        <p:grpSp>
          <p:nvGrpSpPr>
            <p:cNvPr id="573" name="Group 38"/>
            <p:cNvGrpSpPr/>
            <p:nvPr/>
          </p:nvGrpSpPr>
          <p:grpSpPr>
            <a:xfrm>
              <a:off x="6300720" y="3789360"/>
              <a:ext cx="2231280" cy="1942560"/>
              <a:chOff x="6300720" y="3789360"/>
              <a:chExt cx="2231280" cy="1942560"/>
            </a:xfrm>
          </p:grpSpPr>
          <p:pic>
            <p:nvPicPr>
              <p:cNvPr id="574" name="Picture 39" descr="PIC_011"/>
              <p:cNvPicPr/>
              <p:nvPr/>
            </p:nvPicPr>
            <p:blipFill>
              <a:blip r:embed="rId6"/>
              <a:srcRect l="0" t="49793" r="70936" b="28392"/>
              <a:stretch/>
            </p:blipFill>
            <p:spPr>
              <a:xfrm>
                <a:off x="6300720" y="3789360"/>
                <a:ext cx="2231280" cy="194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Text Box 40"/>
              <p:cNvSpPr/>
              <p:nvPr/>
            </p:nvSpPr>
            <p:spPr>
              <a:xfrm>
                <a:off x="6503400" y="4135680"/>
                <a:ext cx="1825200" cy="64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Text Box 41"/>
            <p:cNvSpPr/>
            <p:nvPr/>
          </p:nvSpPr>
          <p:spPr>
            <a:xfrm>
              <a:off x="7021440" y="443700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ĭ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灯片编号占位符 3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915-101E-48FC-B082-A9866C89B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页脚占位符 3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0T01:07:47Z</dcterms:created>
  <dc:creator/>
  <dc:description/>
  <cp:keywords/>
  <dc:language>en-US</dc:language>
  <cp:lastModifiedBy>User</cp:lastModifiedBy>
  <dcterms:modified xsi:type="dcterms:W3CDTF">2016-10-05T12:05:20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